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3908-13EC-427D-A3BF-FADA42FA7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6299-C169-43EB-ABED-3128B46EA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3CE1-3E6C-4C1C-A554-F6AEDBF87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FFF3-6C6A-423A-A60C-D782A47DB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9F934-2333-4DF5-A4F0-CB892ACEF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44988-A62F-4458-BF1F-CEE5B6C70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42643-76AE-4B0D-9E73-155A9866E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22345-6530-44CD-B780-C992584A9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3795A-9616-45E9-BDF7-49749D70A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DB20E-13A7-44C0-9986-D8F0A9952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D97F1-B5C0-45BF-A6B7-84CB355AF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7C5E-EAF2-4784-A949-6BD4A07D4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5E888-DD5E-46AF-9678-21B1F5F60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A8FBE-5283-43E3-A70E-50A3886AE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47D93-F3FD-489B-8FCB-073045781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3BFB4-D52B-45D9-8AC9-808BFB0BA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6D20E-CC19-4835-93AE-94FA3FBA7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013F-BD81-4502-B3D3-1213E5331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6ACD-61C0-404C-815E-FB0C6DF06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4FDC-EA83-4A71-B86B-025D9408C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C94B-80C8-4AA9-AA4D-89F97DFE8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6A91-E4F2-48BA-AD19-EE33C03D8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344D-5C9C-4B78-A730-269C13884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DE59-D5F4-476F-826A-4BD643276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70940-4BC7-4732-8ABC-AAAD3B0D937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15/06/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Gruppo network cultura imprenditoriale e alternanz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B0DF1-4186-4CB8-974E-03AD8032666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etto Incontreret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Partners regional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CNA Emilia-Romag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CONFESERCENTI  Regionale E.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Agci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Unc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Confagricoltura Emilia-Romag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Confederazione italiana agricoltori Emilia-Romag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Confcooperative  Emilia-Romag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Lega cooper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e attivare il servizi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Richiesta di attivazione del servizio a Infocamere da parte delle C.C.I.A.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nfocamere abilita come Gestori le Associazioni di categoria interessate in base alle segnalazioni delle C.C.I.A.A. compilando gli appositi modul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’ stato richiesto di prevedere la possibilità che le Camere che attivano il servizio abilitino come enti gestori anche le associazioni regionali di categoria, qualora queste lo richiedano e previo accordo con i loro livelli provinciali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’ stato chiesto che almeno in una prima fase le Camere, all’atto di attivare il servizio, chiedano a Infocamere di non ammettere la modalità degli annunci indipendenti.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li incontri sul territori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Calendario di presentazioni del servizio incontrerete presso le sedi delle C.C.I.A.A., con il supporto tecnico dei funzionari di Infocamere =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Le C.C.I.A.A. individuano una data e il luogo, informano previamente Unioncamere E.R. che avvisa le Associazioni di categoria regionali aderenti al protocoll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Raccolta adesioni da parte delle C.C.I.A.A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2T09:51:21Z</dcterms:created>
  <dc:creator>lenzi</dc:creator>
  <dc:description/>
  <dc:language>en-US</dc:language>
  <cp:lastModifiedBy>lenzi</cp:lastModifiedBy>
  <dcterms:modified xsi:type="dcterms:W3CDTF">2009-06-12T10:14:01Z</dcterms:modified>
  <cp:revision>3</cp:revision>
  <dc:subject/>
  <dc:title>Progetto Incontrerete</dc:title>
</cp:coreProperties>
</file>